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59D6-5A8E-42F7-B56D-55930E872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B107-2677-4BC7-9101-1EF3B7BBD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BCA9-4013-4DB9-8DF9-8910E70DD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9CEF-DB57-44AB-8F6E-DE1A2543B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0C26-A917-4163-BB80-9549D4EA2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315E-FE22-495B-98F1-1BCDC07E6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EDCE-4583-4771-A199-6F0887A54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51E9-6EC7-4AA7-AE7D-C737039C3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549C-14FD-499E-B474-2718310C5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5C3F-4818-4E79-9CE5-5350A3C4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9288-041B-42B4-8701-459DBA9E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AA06-4563-4775-AD14-E956A190E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2ACE6-8ADD-4F9E-B18C-087B6A6078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_ Clase 7 im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13 de mayo del 20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Propósito # 46: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Te gusta ir al medic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Historieta 7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p. 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. ¿Estas enfermo(a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2. ¿Vas a la consulta del medic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3. ¿Te ve el medic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4. ¿Te examina el medic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5. ¿Te habla el medic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6. Según el medico, ¿Qué tien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7. ¿Te receta unas pastill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8. ¿Te despacha los medicamentos la farmacéutic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Los pronombres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me, te, nos</a:t>
            </a:r>
            <a:br>
              <a:rPr sz="40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(telling what happens to who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lready learned the pronoun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, te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no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. Do you remember with what verbs and/or express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teres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8000"/>
                </a:solidFill>
                <a:latin typeface="Arial"/>
              </a:rPr>
              <a:t>Me interesa el ar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8000"/>
                </a:solidFill>
                <a:latin typeface="Arial"/>
              </a:rPr>
              <a:t>¿te interesan las matemátic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burr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00cc"/>
                </a:solidFill>
                <a:latin typeface="Arial"/>
              </a:rPr>
              <a:t>-La clase de historia nos abur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00cc"/>
                </a:solidFill>
                <a:latin typeface="Arial"/>
              </a:rPr>
              <a:t>-Me aburre el béisbol en la televis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, 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call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object pronouns”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bject pronoun is placed righ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efo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verb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or 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0" i="1" lang="es-ES_tradnl" sz="28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El medico </a:t>
            </a: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me </a:t>
            </a: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exami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b-La farmacéutica </a:t>
            </a: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te</a:t>
            </a: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 vende la rece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c-La profesora </a:t>
            </a: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nos</a:t>
            </a: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 da un exam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bject pronouns tell us who is receiving the action of the verb. So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-The doctor examines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b-The pharmacist sells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you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the prescrip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-The teacher gives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us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n ex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make it negative, you add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front of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 pronoun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El estudiante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no</a:t>
            </a: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 me escuch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320" y="990360"/>
            <a:ext cx="899136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- Make each sentence negative. Follow the mod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Mis amigos me ven.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Mis amigos no me 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profesor nos hab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o te doy los C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Quién me compren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Él me escuch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los nos dicen la ver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91440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I- Rewrite each statement as a question. Follow the model.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 Hint: put the </a:t>
            </a:r>
            <a:r>
              <a:rPr b="1" i="1" lang="es-ES_tradnl" sz="3200" spc="-1" strike="noStrike">
                <a:solidFill>
                  <a:srgbClr val="cc00cc"/>
                </a:solidFill>
                <a:latin typeface="Arial"/>
              </a:rPr>
              <a:t>S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ubject </a:t>
            </a:r>
            <a:r>
              <a:rPr b="1" i="1" lang="es-ES_tradnl" sz="3200" spc="-1" strike="noStrike">
                <a:solidFill>
                  <a:srgbClr val="cc00cc"/>
                </a:solidFill>
                <a:latin typeface="Arial"/>
              </a:rPr>
              <a:t>P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ronoun in front of the Ver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llos nos comprenden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=    </a:t>
            </a: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¿Nos comprenden ell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ds. me ayudan maña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ú nos visitas en el hospi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o te doy la ci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las me saludan en españ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los nos escuch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1676520"/>
            <a:ext cx="99036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3657600" y="205740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2133720"/>
            <a:ext cx="2590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74320" y="20574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2133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001000" y="1600200"/>
            <a:ext cx="762120" cy="762120"/>
          </a:xfrm>
          <a:prstGeom prst="ellipse">
            <a:avLst/>
          </a:prstGeom>
          <a:noFill/>
          <a:ln w="1908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148240" y="236232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cc"/>
                </a:solidFill>
                <a:latin typeface="Arial"/>
              </a:rPr>
              <a:t>S.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3444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area # 4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8686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e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57 (1-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3T00:39:42Z</dcterms:created>
  <dc:creator>Helen Zumaeta</dc:creator>
  <dc:description/>
  <dc:language>en-US</dc:language>
  <cp:lastModifiedBy>Helen Zumaeta</cp:lastModifiedBy>
  <dcterms:modified xsi:type="dcterms:W3CDTF">2011-05-13T20:12:10Z</dcterms:modified>
  <cp:revision>10</cp:revision>
  <dc:subject/>
  <dc:title>Me llamo ________ Clase 7 im La fecha es el 13 de mayo del 2011</dc:title>
</cp:coreProperties>
</file>